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C71C-3FD4-4157-8AEF-9AAA0D1A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FF9-D62D-4A8C-8E9B-6FD3658C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5E4-CAAA-4ED9-B106-7BF32318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4CA-8974-4A24-9B2E-F9E5F6F9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B0D1-E0C3-4337-A5CF-D702E85C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BD1A-7BDC-4DF8-8859-6694F29E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69F4-ED18-4531-B39B-913EA775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7582-248B-4279-8D91-39C6897A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499C-9196-4B1C-91FC-AD05D1A7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F9C6-E561-47BD-B161-181CA3C0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9691-47DE-4186-9899-DCC0127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123-D39D-4D4A-AAF6-C0F8338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A702-27A7-4D52-BF16-A630F124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1E84-2ED7-47C7-A66F-BA878185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9FEE-F2EF-4A87-86B9-0A49B4E1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3EDA-3270-44F8-B501-5313A312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2FA3-8B7A-48A2-ACCC-AE523371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8B0-BEDE-4DF3-BB0E-D2EA7C9B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34D-B420-40ED-AD9D-B9B90A67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DD4-DACD-4473-B966-02E77C0C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F6C5-65B2-4F5B-8EEE-22047792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293-808B-4A56-8147-E68F57CA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6D2-87B8-4ECB-B6DB-4A6E9B2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82D-73CD-40A5-BA10-B0F21ECB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C80-16C7-4685-B888-69A7E05F06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C4A-2BC0-4501-9FBE-61E5A3C7B5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Научно - практическая конференция «За экологическую безопасность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редняя школа №7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города Муром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28954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Book Antiqua"/>
              </a:rPr>
              <a:t>Исследуемые антропогенные типы поч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94360" y="2863080"/>
            <a:ext cx="906480" cy="2344680"/>
            <a:chOff x="1494360" y="2863080"/>
            <a:chExt cx="906480" cy="2344680"/>
          </a:xfrm>
        </p:grpSpPr>
        <p:sp>
          <p:nvSpPr>
            <p:cNvPr id="126" name=""/>
            <p:cNvSpPr/>
            <p:nvPr/>
          </p:nvSpPr>
          <p:spPr>
            <a:xfrm>
              <a:off x="1494360" y="2863080"/>
              <a:ext cx="906480" cy="4064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4360" y="3269520"/>
              <a:ext cx="906480" cy="500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44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94360" y="3769560"/>
              <a:ext cx="906480" cy="31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94360" y="4082400"/>
              <a:ext cx="906480" cy="624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94360" y="4707720"/>
              <a:ext cx="906480" cy="500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914400" y="2286000"/>
            <a:ext cx="7620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entury Schoolbook"/>
              </a:rPr>
              <a:t>Урбоподзолистые почвы    Собственно урбаноземы        Урботехноземы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85640" y="2863080"/>
            <a:ext cx="916920" cy="2333880"/>
            <a:chOff x="4085640" y="2863080"/>
            <a:chExt cx="916920" cy="2333880"/>
          </a:xfrm>
        </p:grpSpPr>
        <p:sp>
          <p:nvSpPr>
            <p:cNvPr id="133" name=""/>
            <p:cNvSpPr/>
            <p:nvPr/>
          </p:nvSpPr>
          <p:spPr>
            <a:xfrm>
              <a:off x="4096080" y="2863080"/>
              <a:ext cx="906480" cy="40644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96080" y="3269520"/>
              <a:ext cx="906480" cy="500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44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96080" y="3769560"/>
              <a:ext cx="906480" cy="312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5640" y="4572360"/>
              <a:ext cx="906480" cy="624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9696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5640" y="4071960"/>
              <a:ext cx="906840" cy="500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68400" y="2825280"/>
            <a:ext cx="1189800" cy="2396160"/>
            <a:chOff x="6368400" y="2825280"/>
            <a:chExt cx="1189800" cy="2396160"/>
          </a:xfrm>
        </p:grpSpPr>
        <p:sp>
          <p:nvSpPr>
            <p:cNvPr id="139" name=""/>
            <p:cNvSpPr/>
            <p:nvPr/>
          </p:nvSpPr>
          <p:spPr>
            <a:xfrm>
              <a:off x="6368400" y="2825280"/>
              <a:ext cx="1189800" cy="5335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68400" y="3333960"/>
              <a:ext cx="1189800" cy="656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441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8400" y="3990240"/>
              <a:ext cx="1189800" cy="410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8400" y="4401000"/>
              <a:ext cx="1189800" cy="820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590920" y="2895480"/>
            <a:ext cx="3808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895480"/>
            <a:ext cx="457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 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2895480"/>
            <a:ext cx="457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ourier New"/>
              </a:rPr>
              <a:t>Исследуемые естественные типы поч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371240" y="2895120"/>
            <a:ext cx="1143000" cy="6858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581280"/>
            <a:ext cx="114300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343400"/>
            <a:ext cx="1143000" cy="533520"/>
          </a:xfrm>
          <a:prstGeom prst="rect">
            <a:avLst/>
          </a:prstGeom>
          <a:gradFill rotWithShape="0">
            <a:gsLst>
              <a:gs pos="0">
                <a:srgbClr val="ffb92d"/>
              </a:gs>
              <a:gs pos="50000">
                <a:srgbClr val="ff6600"/>
              </a:gs>
              <a:gs pos="100000">
                <a:srgbClr val="ffb92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4876920"/>
            <a:ext cx="1143000" cy="1218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514600"/>
            <a:ext cx="1143000" cy="380880"/>
          </a:xfrm>
          <a:prstGeom prst="rect">
            <a:avLst/>
          </a:pr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617220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ерново -подзолист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2514600"/>
            <a:ext cx="4572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 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895480"/>
            <a:ext cx="12193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2514600"/>
            <a:ext cx="1219320" cy="380880"/>
          </a:xfrm>
          <a:prstGeom prst="rect">
            <a:avLst/>
          </a:prstGeom>
          <a:solidFill>
            <a:srgbClr val="3333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3200400"/>
            <a:ext cx="121932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809880"/>
            <a:ext cx="1219320" cy="12193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029200"/>
            <a:ext cx="1219320" cy="1066680"/>
          </a:xfrm>
          <a:prstGeom prst="rect">
            <a:avLst/>
          </a:prstGeom>
          <a:solidFill>
            <a:srgbClr val="462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6172200"/>
            <a:ext cx="1828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ллювиально -лугов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2514600"/>
            <a:ext cx="45720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514600"/>
            <a:ext cx="13716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2895480"/>
            <a:ext cx="1371600" cy="6098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3505320"/>
            <a:ext cx="1371600" cy="609480"/>
          </a:xfrm>
          <a:prstGeom prst="rect">
            <a:avLst/>
          </a:prstGeom>
          <a:solidFill>
            <a:srgbClr val="a16b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4114800"/>
            <a:ext cx="1371600" cy="990720"/>
          </a:xfrm>
          <a:prstGeom prst="rect">
            <a:avLst/>
          </a:prstGeom>
          <a:solidFill>
            <a:srgbClr val="d28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5105520"/>
            <a:ext cx="1371600" cy="914400"/>
          </a:xfrm>
          <a:prstGeom prst="rect">
            <a:avLst/>
          </a:prstGeom>
          <a:solidFill>
            <a:srgbClr val="ee9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617220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ллювиаль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001000" y="2514600"/>
            <a:ext cx="5335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о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равнительная диаграмма типов почв по содержанию анионов и катионов химических элемент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362320"/>
          <a:ext cx="7693200" cy="37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693200" cy="37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472080" y="5708520"/>
          <a:ext cx="267192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2080" y="5708520"/>
                    <a:ext cx="2671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2212920"/>
          <a:ext cx="8610480" cy="416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212920"/>
                    <a:ext cx="861048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ртографическая презент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11622" t="52814" r="71046" b="8711"/>
          <a:stretch/>
        </p:blipFill>
        <p:spPr>
          <a:xfrm>
            <a:off x="1143000" y="2362320"/>
            <a:ext cx="3054240" cy="3724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43200" y="335268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410080"/>
            <a:ext cx="38124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2819520" cy="1854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27050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entury Schoolbook"/>
              </a:rPr>
              <a:t>Вывод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я составления физико – географической характеристики объектов исследования были отобраны естественные и антропогенные биогеоценозы отличающиеся набором своих типов почв, в естественных биогеоценозах  ( район деревни Загряжское ) было обнаружено три типа почв, отличающихся механическим составом , кислотностью, преобладающим характером растительности. В антропогенных биогеоценоза микрорайона школы №7 было обнаружено также три типа поч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На выбранных объектах провели изучение структуры, механического состава, физических свойств и химического состава шести типов почв (естественного и антропогенного происхождения), установили зависимость почвообразующих факторов на конкретных пример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результате работы была собрана коллекция почв, выполнены схематические разрезы почвенных горизонтов для дальнейшего изучения антропогенного воздействия на почвы районов исследова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На основании визуальных наблюдений и химического анализа установили, наибольшее антропогенное влияние прослеживается на территории городского микрорайона  и на берегу реки Илевны, что обусловлено человеческим фактором в данном месте. В результате эрозии и сведения растительного покрова и верхнего гумусового горизонта, что приводит к снижению устойчивости почв по отношению к загрязнению тяжелыми металлами. С чем связано уплотнение почв, затрудняющее естественное восстановление и развитие растительности. Привоз и насыпка грун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зависимости от преобладающего комплекса почвообразующих факторов идет размещение изученных типов поч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ourier New"/>
              </a:rPr>
              <a:t>Рекомендации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 дальнейшем провести исследование гумусного состояния почв, а также исследование содержания в почве других тяжелых металл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Изучить почвы агроэкосистемы совхоза «Муромский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Сравнить полученные результаты работы с имеющимися данными химического состава почв Муромского район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Выяснить происхождение высокой концентрации сульфат – ионов в районе микрорайона средней школы №7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едложить меры по уменьшению и регулировке степени антропогенного воздействия на экосистему в районе деревни Загряжско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одыскать агро – технологии по уменьшению ионов - свинца и железа в почв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Предложить жителям деревни Загряжское и микрорайона средней школы №7 сделать химический анализ почв своих садово – огородных участко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99"/>
                </a:solidFill>
                <a:latin typeface="Arial"/>
              </a:rPr>
              <a:t>Тема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ПОЧВА В БИОСФЕРНОМ ПРОЦЕССЕ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( Сравнительный анализ почв города и района по степени антропогенного воздействия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365480" cy="1600200"/>
          </a:xfrm>
          <a:prstGeom prst="rect">
            <a:avLst/>
          </a:prstGeom>
          <a:ln w="38160">
            <a:solidFill>
              <a:srgbClr val="0066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чвы в городах и прочих населенных пунктах и их окрестностях уже давно отличаются от природной, биологически ценной почвы играющей важную роль в поддержании экологического равновесия результате производственной деятельности человека изменяется состояние природной сре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2666880" cy="1755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24480" y="152280"/>
            <a:ext cx="259092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entury Schoolbook"/>
              </a:rPr>
              <a:t>Цель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зучение экологии почв естественных и антропогенных биогеоценозов города Мурома и Муромского района для сравнительного анализа почвогрунтов, вовлекаемых человеком в хозяйственную деятельность на данной территор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38284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09680" y="5029200"/>
            <a:ext cx="2514600" cy="1660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486400" y="5054760"/>
            <a:ext cx="251460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Century Schoolbook"/>
              </a:rPr>
              <a:t>Задачи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ставить физико – географическую характеристику объектов исследова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зучить на конкретных объектах почвы города и района: механический состав, размещение, физические свойства, структура, и химический соста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обрать коллекцию почв и составить схематические почвенные  разрезы по разным объект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зучить антропогенное влияние на почву методами визуального  наблюдения и химического анализа. (Практическая часть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Установить закономерность размещения различных типов поч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равнить исследуемые типы почв по антропогенной нагрузк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делать выводы по выполненной работ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редложить  рекомендации на основе исследован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4876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6600"/>
                </a:solidFill>
                <a:latin typeface="Arial"/>
              </a:rPr>
              <a:t>Методика рабо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Почвенный разрез и место его заложения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Описание почвенного разреза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формление почвенной коллек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10280" y="152280"/>
            <a:ext cx="2036880" cy="312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33720" y="4648320"/>
            <a:ext cx="2646360" cy="174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4120" y="4572000"/>
            <a:ext cx="28810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пределение кислотности с помощью индикаторной бума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пределение кислотности и плодородия почв по составу растительности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пределение хлорид - ио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пределение кальц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пределение сульфат - ио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бнаружение катионов свин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Обнаружение катионов желез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3233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entury Schoolbook"/>
              </a:rPr>
              <a:t>Естественные объекты исследования - ФГ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2362320"/>
          <a:ext cx="7693200" cy="441468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6600"/>
                          </a:solidFill>
                          <a:latin typeface="Century Schoolbook"/>
                        </a:rPr>
                        <a:t>Широколиственный лес в пойме реки Илевн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6600"/>
                          </a:solidFill>
                          <a:latin typeface="Century Schoolbook"/>
                        </a:rPr>
                        <a:t>Пойменный луг в районе деревни Загряжско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6600"/>
                          </a:solidFill>
                          <a:latin typeface="Century Schoolbook"/>
                        </a:rPr>
                        <a:t>Правый берег реки Илевн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Микрорельеф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Надпойменная равн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Прирусловая пойма, вал, зандровая равнин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Береговая лин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Увлажнение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Среднее, верховое и низинно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Среднее, верховое и низинно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Избыточное, низовое проточно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Преоблада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щие почвы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Дерново -подзолисты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Аллювиально - луговы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Аллювиальные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Характер растительнос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Дубрава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Пойменный луг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Прибрежная, околоводная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тропогенные объекты исследования - ФГ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2362320"/>
          <a:ext cx="7693200" cy="46908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У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  <a:ea typeface="Times New Roman"/>
                        </a:rPr>
                        <a:t>рботехноземов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У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  <a:ea typeface="Times New Roman"/>
                        </a:rPr>
                        <a:t>рбоподзолистые почвы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С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  <a:ea typeface="Times New Roman"/>
                        </a:rPr>
                        <a:t>обственно урбаноземы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  <a:ea typeface="Times New Roman"/>
                        </a:rPr>
                        <a:t>ндустриземы</a:t>
                      </a:r>
                      <a:r>
                        <a:rPr b="1" lang="en-US" sz="1600" spc="-1" strike="noStrike">
                          <a:solidFill>
                            <a:srgbClr val="993366"/>
                          </a:solidFill>
                          <a:latin typeface="Century Schoolbook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Искусственно 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созданные поверхностн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- гумусированные почвоподобные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образования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Естественно         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антропогенно -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реобразованные   почвы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Антропогенные    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глубоко    преобразованные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очвогрунты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Антропогенные    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глубоко    преобразованные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очвогрун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районах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ромышленных предприятий,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 в близ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автомобильных   и железных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дорог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На большей части микрорайона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елитебные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участки,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устыри,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заросшие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свалки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районах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промышленных предприятий,</a:t>
                      </a:r>
                      <a:r>
                        <a:rPr b="1" lang="en-US" sz="1400" spc="-1" strike="noStrike">
                          <a:solidFill>
                            <a:srgbClr val="212121"/>
                          </a:solidFill>
                          <a:latin typeface="Century Schoolbook"/>
                          <a:ea typeface="Times New Roman"/>
                        </a:rPr>
                        <a:t> в близ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автомобильных   и железных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дорог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Физически преобразованные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химически преобразованные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1-30T18:14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